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7B0-B3BC-4694-B12B-6F569404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6E5-B3A2-4A9C-BB30-7D7982F8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71F-AA34-4F14-8E42-039E51A8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295-E84E-4FF4-B90C-8059A1D1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DD4A-C6DE-4A45-B5C1-3B7A9F1A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7C87-1161-4D5A-B9FE-D923883A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27CC-CD6B-4BF0-913F-0E70156B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885B-8850-4AB1-81CD-CAB909B6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2834-60D8-46FF-9FB5-95787A45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A0F8-792D-4FF5-A49C-9B562401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7D4B-F603-4CA0-8B98-DDAC64BE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D9E-46DE-4748-A878-DDAE307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98FA-EFB3-4104-A27D-02B8E632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025B-EE8E-4E6E-9E3C-75AB7A8B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A163-97B2-4607-AC00-12A2C5B1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D3FC-676B-4DA0-BC26-7D442115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0EC4-7B6E-48C9-9A9C-36EB981F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EFF-F782-47C2-B29E-C2063564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984-3E1E-4D81-932B-18AE797A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690-E247-4550-AAAD-06257DCB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94C-A773-4492-A612-A6530459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5DF-485B-459C-AFE3-C58BF4C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F08-5303-4194-8756-BD768AD9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FB3-66BF-4269-8036-42E2184C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35FC-C14E-44B9-B7A1-4ABA8681E786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DC67-9E39-457E-B5C2-FC6C7442260B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3310-A6C5-48E4-BB43-014A8B9BCCC4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E45C-DE2C-4742-8942-0D8B8B3F7D27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de.wikipedia.org/wiki/Bild:Anamorphic_lens_illustration_with_stretching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el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 um 1950 (Aufkommen des TV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s Publikum ansprechen  (Inhalte aus dem Leben der Jugendlich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Änderung der Filmmusik: neu Rock, Pop, 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erbesserung der Klangqualität in Kin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 auf Tonträger vermarkt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70er:  wieder synfonische Filmmusik mit grossen Orchest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80er:  Synthesizer-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rüher Ton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Zeitalter des Fernsehe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etosko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inématograp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appeur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ianis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üst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hrmärk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Wind, Pferdegetrappel, Schritte, et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Nadelt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7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thesi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5480" y="1599840"/>
            <a:ext cx="87152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  (1895 – ca. 1925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rühe Tonfilm  (ca. 1930 –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ilm im Zeitalter des Fernsehens  (ab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Erfindung des Kinetoskops  (Thomas A. Edison) und des Cinématographen (Louis und Auguste Lumiè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5" descr="http://www.filmvorfuehrer.de/images/9/93/Edison_Kinetoscope.jpg"/>
          <p:cNvPicPr/>
          <p:nvPr/>
        </p:nvPicPr>
        <p:blipFill>
          <a:blip r:embed="rId3"/>
          <a:stretch/>
        </p:blipFill>
        <p:spPr>
          <a:xfrm>
            <a:off x="5857920" y="2786040"/>
            <a:ext cx="264780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://www.victorian-cinema.net/cinematographwrench.jpg"/>
          <p:cNvPicPr/>
          <p:nvPr/>
        </p:nvPicPr>
        <p:blipFill>
          <a:blip r:embed="rId4"/>
          <a:stretch/>
        </p:blipFill>
        <p:spPr>
          <a:xfrm>
            <a:off x="544680" y="3286080"/>
            <a:ext cx="4027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zeigten erstmals kurze Filme</a:t>
            </a:r>
            <a:br>
              <a:rPr sz="2800"/>
            </a:b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n Tappeuren live musikalisch unterma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 &amp; 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Möglichkeit, Tonaufnahmen zu mac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die Musik im Film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Lautes Rattern des Projek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Düstere Stimmung erhel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: Film als billige Massenvergnügu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03: durchschnittl. Filmlaufzeit: 9 Minu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10: Dokumentarfilme        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s zu 80 Musik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infonieorchester oder Kinoorgeln (Klangfarben, Geräuscheffek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ue Shee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späten Einsatz des Tonfilm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onwiedergabe schlec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Konzentration auf 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challplatte und Filmstreifen liefen auseinander          keine Synchronitä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ntwicklung der Langspielplatte  (Nadeltonverfahr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 Lichttonverfahren: Bild- und Toninformation auf demselbem Streif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rteil beim Vervielfältigen des Fil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chronität bei Filmri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Eingekerbter Pfeil nach rechts 5"/>
          <p:cNvSpPr/>
          <p:nvPr/>
        </p:nvSpPr>
        <p:spPr>
          <a:xfrm>
            <a:off x="1928880" y="364320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Filmbild mit Lichttonspuren in Zackenschrif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4210200"/>
            <a:ext cx="1936800" cy="1076040"/>
          </a:xfrm>
          <a:prstGeom prst="rect">
            <a:avLst/>
          </a:prstGeom>
          <a:ln w="0">
            <a:noFill/>
          </a:ln>
        </p:spPr>
      </p:pic>
      <p:sp>
        <p:nvSpPr>
          <p:cNvPr id="101" name="Eingekerbter Pfeil nach rechts 6"/>
          <p:cNvSpPr/>
          <p:nvPr/>
        </p:nvSpPr>
        <p:spPr>
          <a:xfrm>
            <a:off x="1928880" y="414324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feld 7"/>
          <p:cNvSpPr/>
          <p:nvPr/>
        </p:nvSpPr>
        <p:spPr>
          <a:xfrm>
            <a:off x="993600" y="5715000"/>
            <a:ext cx="743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mpfindliche Filmstreifen (Verschmutzu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400" y="1599840"/>
            <a:ext cx="8715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sante Verbreitung des Tonfil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nzahl Tonkinos: 500 auf 5000 (innert einem Jah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lektroindustrie in USA (v.a. in Hollywood) gewann grossen Einfluss (Patente für Tontechnik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10:33Z</dcterms:created>
  <dc:creator>Pascal Hanselmann</dc:creator>
  <dc:description/>
  <dc:language>en-US</dc:language>
  <cp:lastModifiedBy>***</cp:lastModifiedBy>
  <dcterms:modified xsi:type="dcterms:W3CDTF">2011-06-23T14:34:23Z</dcterms:modified>
  <cp:revision>16</cp:revision>
  <dc:subject/>
  <dc:title>Geschichte der Filmmusik</dc:title>
</cp:coreProperties>
</file>